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wmf" ContentType="image/x-wmf"/>
  <Override PartName="/ppt/media/image4.wmf" ContentType="image/x-wmf"/>
  <Override PartName="/ppt/media/image27.wmf" ContentType="image/x-wmf"/>
  <Override PartName="/ppt/media/image28.wmf" ContentType="image/x-wmf"/>
  <Override PartName="/ppt/media/image5.wmf" ContentType="image/x-wmf"/>
  <Override PartName="/ppt/media/image30.wmf" ContentType="image/x-wmf"/>
  <Override PartName="/ppt/media/image10.wmf" ContentType="image/x-wmf"/>
  <Override PartName="/ppt/media/image29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.wmf" ContentType="image/x-wmf"/>
  <Override PartName="/ppt/media/image26.wmf" ContentType="image/x-wmf"/>
  <Override PartName="/ppt/media/image2.wmf" ContentType="image/x-wmf"/>
  <Override PartName="/ppt/media/image25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media/image22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C2EC7-4A7A-4579-9925-508BCD359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B43B8-F593-4F75-8C53-DC92172E5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06297-37CC-4FE0-AEE2-6ADF4C964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5CA2B-7756-4192-9573-C657CE630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74D14-7FF2-43DF-B63D-59A7F7DA8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FD44E-D2C1-420C-A392-4232ED256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51DCE-BE51-40E5-95D4-7E445AD04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FBD9C-CB7C-4654-BED5-8B6320DD8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0F669-7A41-4646-86FA-76BECF9A2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8E112-29BE-4F7B-AEE1-CC2CAFD6A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D36E9-1149-4C5C-AA93-2C662092B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F9622-070E-4048-AB0C-B755CBF4C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1777C-56C6-4C6B-84E8-A1FCF7E6B5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228760" y="1969920"/>
            <a:ext cx="4686480" cy="29242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7241400" y="54864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/29/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228760" y="1974960"/>
            <a:ext cx="4686480" cy="29145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7241400" y="54864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/08/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228760" y="1969920"/>
            <a:ext cx="4686480" cy="29242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7241400" y="54864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/10/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228760" y="1969920"/>
            <a:ext cx="4686480" cy="29242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7241400" y="54864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/12/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228760" y="1969920"/>
            <a:ext cx="4686480" cy="29242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7241400" y="54864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/13/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228760" y="1969920"/>
            <a:ext cx="4686480" cy="2924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7241400" y="54864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/14/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228760" y="1969920"/>
            <a:ext cx="4686480" cy="29242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7241400" y="54864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/15/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2228760" y="1969920"/>
            <a:ext cx="4686480" cy="292428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7241400" y="54864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/16/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2228760" y="1969920"/>
            <a:ext cx="4686480" cy="29242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7241400" y="54864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/20/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2228760" y="1969920"/>
            <a:ext cx="4686480" cy="292428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7241400" y="54864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/21/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2228760" y="1969920"/>
            <a:ext cx="4686480" cy="292428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7241400" y="54864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/23/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228760" y="1969920"/>
            <a:ext cx="4686480" cy="29242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7241400" y="54864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/31/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2228760" y="1969920"/>
            <a:ext cx="4686480" cy="292428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7241400" y="54864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/24/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2228760" y="1969920"/>
            <a:ext cx="4686480" cy="292428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7241400" y="54864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/25/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2228760" y="1969920"/>
            <a:ext cx="4686480" cy="292428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7241400" y="54864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/26/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2228760" y="1969920"/>
            <a:ext cx="4686480" cy="292428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7241400" y="54864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/27/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2228760" y="1969920"/>
            <a:ext cx="4686480" cy="292428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7241400" y="54864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/28/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228760" y="1969920"/>
            <a:ext cx="4686480" cy="292428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241400" y="54864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/29/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2228760" y="1969920"/>
            <a:ext cx="4686480" cy="292428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7241400" y="54864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/30/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2228760" y="1969920"/>
            <a:ext cx="4686480" cy="29242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7241400" y="54864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/01/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2228760" y="1969920"/>
            <a:ext cx="4686480" cy="2924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7241400" y="54864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/02/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2228760" y="1969920"/>
            <a:ext cx="4686480" cy="292428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7241400" y="54864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/03/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228760" y="1969920"/>
            <a:ext cx="4686480" cy="29242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7241400" y="54864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/01/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7241400" y="54864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/04/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228760" y="1969920"/>
            <a:ext cx="4686480" cy="292428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7241400" y="54864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/05/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7241400" y="54864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/29/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7241400" y="54864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/29/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7241400" y="54864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/29/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228760" y="1969920"/>
            <a:ext cx="4686480" cy="29242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7241400" y="54864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/02/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228760" y="1965240"/>
            <a:ext cx="4686480" cy="29336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41400" y="54864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/03/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228760" y="1969920"/>
            <a:ext cx="4686480" cy="29242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7241400" y="54864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/04/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228760" y="1969920"/>
            <a:ext cx="4686480" cy="29242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7241400" y="54864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/05/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228760" y="1969920"/>
            <a:ext cx="4686480" cy="29242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7241400" y="54864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/06/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228760" y="1974960"/>
            <a:ext cx="4686480" cy="291456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7241400" y="54864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/07/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4T22:25:37Z</dcterms:created>
  <dc:creator>Mark S. Spencer</dc:creator>
  <dc:description/>
  <dc:language>en-US</dc:language>
  <cp:lastModifiedBy>Mark S. Spencer</cp:lastModifiedBy>
  <dcterms:modified xsi:type="dcterms:W3CDTF">2008-12-06T16:20:46Z</dcterms:modified>
  <cp:revision>20</cp:revision>
  <dc:subject/>
  <dc:title>Slide 1</dc:title>
</cp:coreProperties>
</file>