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EE5-9F89-45F0-A194-3DD2DECE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6B9-65C3-4091-AF19-5BF36E70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D07-5D5C-4D15-AAC5-A9A259AC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B1C-BA68-4C98-B0FF-908C7661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BB5-555A-41C3-BECF-D7652B31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594-A494-4F81-B204-77358314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BB2-59B3-4783-8214-1EDA5D65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638-882E-48CE-8354-4EE662A8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E02-C0EE-4E88-A44C-AF81A83F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842-5E49-4F1B-8784-7FC758DF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F6F-69DF-4B3B-8F01-45828994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A4B-9514-4C69-8FBE-D8D7A38B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6C89-2FFE-47BE-87C0-FB732DC20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gmr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29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5257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Board, trace side, showing jumpers &amp; compon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analog board, bottom view, with component locations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3:43:28Z</dcterms:created>
  <dc:creator>Tom Duncan</dc:creator>
  <dc:description/>
  <dc:language>en-US</dc:language>
  <cp:lastModifiedBy>R. J. (Bob) Schetgen, KU7G</cp:lastModifiedBy>
  <dcterms:modified xsi:type="dcterms:W3CDTF">1999-12-21T20:58:22Z</dcterms:modified>
  <cp:revision>6</cp:revision>
  <dc:subject/>
  <dc:title>No Slide Title</dc:title>
</cp:coreProperties>
</file>